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2F2FE-4AC9-47DC-AEC4-7C4BC020A9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69CD4-7CAF-4419-B1CA-628A62C9B11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E44DB-6816-40F0-9D6C-C79E81F874E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F03E8-FB45-44B1-A99E-45D4A4E2B46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124B8-3B61-44E3-9A5F-4F2F179FA54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BA22C-F91C-4E0B-A1FB-5A530DF04A9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DB0F4-D9FB-488D-9494-5D012808DAB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27DD4-2B1D-4837-B0BF-E9DD67BA8DD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360F7-F8DB-42DE-9542-10982E3541A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A01AF-9F6B-40A8-8915-769EA4F2E0D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30F7A-3665-4CD4-A8AA-8E8A5FF7129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4D6A2C-B414-4B1B-8FF9-57E7749A46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35E0C-36D9-48BD-9FB6-F5066F7E2AF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B602C8-A702-411F-A3A7-89953411B6F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25E569-399C-4E86-AFE2-DAE931583D0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C67017-951A-46F4-9130-189A7B76687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A2D390-2829-4C4F-AE4C-EDAAFD30746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4FAF10-1F6E-41A4-8B28-A89171CD0B4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3EE87E-EA3D-4392-BB02-243958F34EF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0980CC-BD02-4EFE-BD3E-65C064D50CE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956B97-E5AA-43DE-A5D3-BEC7FEB4D85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321EFD-71FC-4F42-8D39-60A8DFB0E8D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4745CC-3B36-453E-A80F-31E95B3080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039C8-1AC6-4C31-8D3D-EA64A4988B6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3781A6-7CA8-4532-9E5E-754E3C9ABBA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694ACD-ED11-4F63-8A3F-5FCA980F49D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33F85A-BEE2-4A90-887C-D82FCBE4FBA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820465-481A-409E-B86B-E7457F79843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C4290B-D947-4CCE-A8ED-387EA28EEC2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62C60E-F232-4404-9AA9-117FA59B13E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3844BB-98EC-4C71-9B5C-147B3B2F002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25B8DF-5B0F-4EAC-A3CC-C65ECCDF3C5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C3C1DC-8963-4C47-AEE1-4D74843A0A9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BD7862-3C7F-4BCD-BA7B-6874DF332A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EC5B7-CCEA-4FB1-B151-E7331FECCF3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60A7B1-0F8F-46A8-AC4D-B89BB455613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C73313-4151-4E68-87C1-6931A525E94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807BD1-2128-4DE3-9297-C298A3F36DF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27F4A-DD3F-4299-8AB7-243B07A6193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60A19-C019-4D1D-AED7-C4707193CA8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F4779-8DD6-46A1-8151-5BEF920BFD8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15041-BA96-4E6A-80D4-EF8CB3FD42B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2AAEC-8A18-43BB-8BF2-EC06BEAA36B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CADCA-64E1-40EF-AD25-670335E71A9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863B3-E3FF-4BF0-B02D-E325926794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83F56-9DA8-4222-BA68-5E8EB5F6F0B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8AF3A-5485-4997-8F5A-8F4CE28619B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9CEAE-5573-4D2C-948E-BDFD6ACFEEF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050F7-0948-4267-AFB0-B5BF2D951DE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A8968-8C35-443A-9E72-D687D1C6198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F9516-A250-426D-AA61-3B435B9D3D0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80122C-CF1E-4572-9EE2-AB66E5463EA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A4E909-03EA-4AC5-B298-07B4BFB82B9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300C99-D241-4DFC-9659-083A6A486DD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0121E8-AF25-4A50-B71D-0B6A3FCB810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19504A-B5D5-4D40-9D89-31053A6D85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13403-1A59-4B63-9B66-EAEA1F47F42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AE6784-9536-488A-BA1F-3AD2DE1C162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6C48E8-68EE-4764-ABEF-B30FDD4CA5F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68A863-A287-4AD5-A9FE-86CBF87E9A6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737E69-D8A9-4527-832F-74700BB13ED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73B898-105C-4B89-943A-42B170638B6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07A8B7-6765-4ACA-8E3A-69FF450F97F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054491-9616-49DE-9D82-E5D96DF012F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A72BCD-3687-4FDB-AA0D-5112F73EE48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C91E8A-9D85-4FED-B053-21278DCB1E5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5923D1-D6E1-48B5-8352-4166342A01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94EFC-6AAF-4761-9E2B-CBFE21636F0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8571FB-2114-441F-9CAB-E91C0CD4110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2AE5D0-B7A0-44F9-B93B-E945B7E2953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776766-03C9-430A-871D-D524235D508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5E8FFC-753F-483C-9E5D-770E18F4CB3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65DFAA-9EEB-4B9C-A4BE-9002952253E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26A37E-782E-493A-9280-A1A92235999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17B7DD-7C90-45E1-97C4-EC81A0A89C7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DDEAF9-625A-4C30-AAD5-4BDE1239C4B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F58CA6-2C98-4010-9B84-4C95F06F575D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9C941-2C7C-4E0D-91C0-F743F32659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445D5-3796-42C7-B68C-F2EDF5AA5AA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77988-DB47-4C03-92C1-3127127051D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24195-613B-4DE6-9037-667C762A735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A4255-A94C-4D3F-96C3-601593416FE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681ED-0FD4-4A5C-89F8-73C646F5F20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4D18F-FD67-4FE7-AA51-CA232726E66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CCE99-3104-4A0E-A163-52FBE214356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B1624-EF63-43E3-A5FC-E5E98E6CF85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B9DF9-6F9D-41B1-AFAF-C6D12AA59B0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43FA9-4D07-4385-8BC4-79BFFAACF97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073C1-8A21-4107-95DE-21A73EB72E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EEC41-20CE-458F-A771-7CFEA156DBF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95B92-7CE9-4A75-8959-AEC428D2EB26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A8EE95-8DA8-4B2A-B38E-A5EE732E8A7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C1012D-B544-4201-9BDC-740357F78A4E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B19B5C-4162-4EC1-A37C-E54077E0B38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F8D35F-0D26-434B-B45C-464D31448278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7A09B8-BB7A-4A9C-B4BE-BBAB68DF8DB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6CF06B-07C8-4412-AAC2-B83A8348907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35B05E-D647-4E2B-B2D8-17448E6D476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17C781-1FA0-4381-B12C-F6EF7D2D18E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2203B1-F1B4-47B3-87AD-258E859C00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AE110-0549-4380-92D8-CE72CCB28F6E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C35640-B9E7-4603-8571-DDBFDF64A2E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7EB7BE-7A72-401D-9F74-9BEF75FD2C5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B59408-DFBE-49F1-A6E9-9943A1EC4F5F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3D8CFA-595C-4424-8EA9-93E777E9FF2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B0D7EE-1365-42BF-9002-8E3FD05868DD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56E277-D664-44EA-8667-E7A6C0B1DB3E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ECEFE4-9A54-4B37-8FFF-0E44C8F427BD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9922A5-EECE-4295-B586-CD06300B178D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BD4CBA-08BC-4376-80F3-6C77E3903D2B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CEEFC4-0172-4539-B9B0-4B9A9E7821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49AF7-43A1-4058-9F02-4543186A23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0E533-219C-4AB4-BB1F-D5DBB3C75154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4F67C5-5A69-46AE-9D20-D0216436A783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13DD22-B032-43CB-9732-6203A76B900B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F3490A-E52C-4F8E-A091-F1C0216F527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B62A37-5060-4DF3-A102-C383BFFB8B20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FF1B77-81A7-44E0-B971-204539A9D13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3FE17-F93E-4968-AC64-91FC45C3D44E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28931-3525-4CFE-B55C-F44E9E40F300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79B3C-7C68-4634-831E-83C6E135608A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F80C2-DCB0-405C-A18A-D0BD9A316FB1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1CCD6-42B5-41F1-B8EA-FA94E6E0F8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EB69C-C2FB-4740-B4D2-F37A6BB5D963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9C982-5E4F-4226-9F6A-DE9DCE6DB0D3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970EB-7D92-4CFD-B9CF-2C81E9D4277A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D6B5F-E4EA-4A34-9A72-AF41DC14541A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FBE19-ABCA-44A7-9277-610D2B26E3E0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E14AA-C074-4382-9524-7925DEBC99BB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A6D9B-5FB4-4595-890D-FB5419B38865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86FC3-8387-44FA-8FBF-17883C9C4074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5A57BD-5642-4E31-8BBD-C564F8F8E835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A58508-1AB5-447B-94C0-B6D55EB74BE7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5D4D6E-B12E-413D-A86D-8F7726A9D8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6A470-804A-4403-8421-EE4D7DCAC743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B86716-33A0-449A-996D-3E93566F1732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900366-B6C9-4A1D-91A7-8F9FE8AD8141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3FF4F9-E388-4DD6-B73B-1DC4EA51CFB9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D5BC8F-FD4D-4D9B-95B2-281A92E8F80A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989434-FB7B-4E41-B507-B460CB0C5FC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5260D8-0BD6-4D40-A7DD-A14F3AD27215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FB4C07-EFC8-4883-9563-2FAB845F3293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17AAFE-09F4-44F4-9E92-104B58DAC8E8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20BD71-7793-420F-B439-E78F4B937884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D87675-4152-4850-A9D1-57AC357388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84235-D9DF-404D-B3B0-9456F7D45710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2CC8AD-D427-4BB8-B0C9-03B95EC360A4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5B1F3A-E398-4337-AC89-4BF39145AA08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EA6B36-C387-4F6C-861D-7FF7057EF1A2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86BD7E-ABD9-442D-BA2F-BED3075DFF72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3F25CB-EAE0-4423-93E7-7BA7FC3E64FF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C6A2C6-63DB-41F1-95D9-11AA52A4371B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47417B-B797-4AF0-8684-9997672B5516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07603B-7945-4956-840E-98126FAA1D8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B2E2CC-00BB-42C2-AD58-37EDB1CCE298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D41B04-FF22-4ECA-858D-CC2CD54A52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B57CE-0796-4B53-BC7D-1C047B3FF44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9311D9-5972-49B8-8839-FBEBC612F6E4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E8B11-DE2C-4D1E-8577-00E18104378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5D1FA-2C8B-4E91-9D1F-BEF8CCD8FEEB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AF673-96A4-4280-89BA-AD1ECECE64B6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AFA56-D43C-4747-9D53-23AD361EB1E3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DF4DB-55E1-495F-B718-19185BB5D8DC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3CF4C-0CD1-4D28-A466-96CE9EEB3DE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91A76-D29D-4CD7-8A89-CF50C34BE2E5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FB76A-AFF5-44E5-A1E7-CA6D7F360B5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1A714-D75A-4A5D-9C8A-008D2263835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B106-D979-4A22-8E25-CBC77D11947E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2A13B-DA09-4200-923B-216CB0DAD576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BE20A-B455-49EE-9971-17FF12A8BED8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11403-EC4C-4429-8E59-156F5B87AC8B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8056F2-7813-4107-B1EE-8256D8A65C81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1DA807-71FD-4460-800A-F7173DF9E21E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36A80F-980F-4ECF-A818-01C986B93690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FFB06D-604C-4F0E-ADA7-8D73CC5068A8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41190F-F76B-4847-8920-1131DCE5DC72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044167-F174-47BC-832D-67B0F4DE828E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4FFA31-9013-49D1-BB2D-3B2F2D42385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9D05-1DDB-43DC-AC96-B0D4A07F2494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62E33B-B6AD-474F-8670-0FF018ADCFF7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69DDA9-0E67-4404-A1B8-E38327E71345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F47045-F80C-4E11-876F-0C7A8FAD3DEB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E82653-2768-45EE-9FA7-A9E1DCB5632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29C4B7-C251-4E95-B9DB-CA371D59CD99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BD8FCF-C072-4663-A8E1-27BD9BEB0DBC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0C03FF-1E5F-4B45-878C-5447FD8EFEA5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79676B-5C93-421C-A1BA-97957C7DD4DF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D1ED43-9DA4-46E4-B423-6DE40EE046EF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87025C-CF75-4F46-A7CD-EDAA70EF43F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194B-A267-4D5E-A5AF-763DDADD61FD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ECDAD7-192A-4DF9-A176-EA5CFEDFD2C2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8D6CA8-AB02-4FEB-901F-EC5FFEFC6107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3D6D43-0D85-4B41-84D0-02E23142C64B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468708-1F40-4BAF-B3AE-190CCE437ED2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7F1A4A-FCDF-4E43-B972-3A17C7106547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5CCABA-858F-4800-92FD-14D3AA1D8F87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D2DFA9-0EA0-47B9-B870-1F72E7A26999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9B3C8-A662-4FD5-9583-95CF7D92F857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DB481-3262-4BB4-8CA7-9042248F4612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30ABF-9FCF-4CA5-8A71-76748A67F2E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42EB-DF0A-41CC-8B3C-5C7F4216BE83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261B5-DE3E-44D4-9F0D-A97F3BA1DCD5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A093A-0D6E-4F6D-A9D2-E436C7B0EF29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9B208-4DAF-49E6-B915-22238FAC4718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1F8BE-2211-4D91-BB65-105D74747C98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C1B03-6E14-4BA7-913F-97A2996AC7AD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EFC21-03C1-4253-AD6F-4F08EC6753D0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1294D-2D4D-4F4B-A8DE-4D501502FC6A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650B4-3072-4990-A3B1-930FD7DCC242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9330A-1231-4CBA-9650-75B5634B605D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518C38-ACE7-48F2-96E5-0417804C294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25BF-29AE-4E73-84C6-BE618FEB7C96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47C8A5-0094-43C3-9FE7-E0E8B5F9E14A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DB3C39-0D33-436E-83DE-B212EE176216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6673AD-9FB2-474D-A0DE-17634D52E09B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DD92C6-C9BB-489B-B2B5-68CC46127543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1F5B64-15E7-4779-BA34-EF8FD2CA7306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2EBF74-06F8-4A83-9A34-9EC61E28F4EF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31758D-548E-48B8-AF1C-C8874CBA9993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251FC7-11E2-4338-8920-ACD37EA139AA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4A8AC1-345C-440D-A376-951CB2A40F0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67596E-B429-4C5A-8AEA-E57AE6CB83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112CD-C25F-41CB-857C-3DEAE00572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88AD-4B0C-4323-BAA3-C1AF43CDBE96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2A0197-773D-450F-9242-7BCE86CBA178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6FBDED-6DE0-4D1F-BEFE-AC3C062F1490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E9F260-B721-41DA-97E3-A9BB35B271B8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1EA32E-EAD2-4C4C-BBE6-DD16202C30A3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7BF0C9-04A5-4269-9EEB-E878B824BB6A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EB9922-8484-4EDB-8B60-9D0F81288AEE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6029B2-4F59-4C2B-ADBC-40CEF8533027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ACE1E4-00E0-434B-A1E2-689EA9142555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D16101-9549-46D0-AC79-FB41C9BC921C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34DE08-5014-43C5-BB05-217824D9E80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3263-CFE2-4112-93FD-2ACD22157995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7E0EE0-FDAE-4C00-ABA4-2E0B49AA65CD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61CED1-9B38-4C9A-9B38-254EE9E4309C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C2AC06-7B4A-498F-B7C0-5B7B020F3C6D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01835-71E1-4781-9D5E-498602D0360B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F5F8F-8ED9-4067-9D47-D111F89DED7A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2E01E3-9BE0-4121-A53E-962F95CD35D1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DF255-C7C3-4432-B616-DB47736226E6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EA0E5-3F5E-49FF-A942-75885EA40DDC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C87D9-0C21-4AB7-B126-55D652B9EA2D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163F7-615E-4C58-BE69-D7ED571E4C2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9BF1-F4E6-4638-9A1E-63322F0F805B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ABA8D-B542-42D6-BF30-19594AA9CD00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CB293-2EEC-43EA-A218-E8575CDFBA33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11963-A57F-4064-8616-487E723B6EC6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E9C33-D5EA-4553-A5E8-DED31096B41B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278470-97A6-49C7-9055-4F3969E3625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1A97-D32E-42E6-A153-6E168E13BEB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BA44-4596-4A99-BB1B-F0E9818A204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0042-6AC3-4C93-86B1-007905E7DB3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6A03-70EB-4377-9A39-CA4670ACBAE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A5519-6BCE-40BE-A63A-AFDDE706929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FDAB8-B478-492F-A263-7620E3FA495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A8EC0-8AB9-4A94-AF73-73658159EB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85D43-3367-4D07-ADE4-981BE6E1C87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9DB90-39C6-4755-BF61-AB79E8DF532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35836-5BA2-43CB-A881-456677143CD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B1F1C-DABF-4FB1-9F39-BC28C52061A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7CDE8-7A1E-4CF1-9730-2BE266A7EC6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F8FFA-5838-4C1B-949E-7CC26B34FC7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61DCC-6AA2-4BBB-A775-692ED17163B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432055-C943-41FD-AE9A-4590DE46E10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A3E9E-3B1F-463B-B015-49EED37CEBF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98169-5A8F-4495-AD9A-5B99984E192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C5027-6ED1-4013-9122-A7683A0F58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98D43-C5B0-4C63-BA71-D70AE324C1E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13FF2-AB84-4AD2-83EE-D040935E179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2D180-E2BA-4EB5-8A9E-ECBD9F939E6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99309-3A73-4613-803C-2EA8E7BEAD2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41DC4-EE22-4EBB-8C02-EBC7D79BC9C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FEC2F-1E3F-45B5-BDF5-6817BA6C7AD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3D96F-4444-40C1-A4E8-17F7EEF6110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61E1E-8FE5-426F-BDCC-68F669BF9B9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2C1CD-EEB5-4D23-9353-7C21D77DD87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4E861-A620-4978-9D72-61539BFF1D9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40059-C52B-4D79-8D32-45632D159D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3DBCB-1C31-465F-A1B9-65D5B0DA5B1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6DCFC-C29A-44A8-ADFB-EBD4E865DB5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DCF4-E6E0-4EB4-A9B4-EEC0E9DB2EA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FB6B-DEA8-420F-B1F0-082DFAADE4E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57BC-7A4E-430B-9160-921781DEA6A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922C-5459-4B93-A3BD-5DD50B5285D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FE49-C84E-465B-A274-605E3250069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1140-8D29-4136-80A5-38C514D9D48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23EC-D0A6-4533-89F7-3BB4993768D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A9A8-8732-4A42-AA7E-F75EB0A10B6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4E6F-1F64-4A00-BAC0-8B9A2BEF91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3E9FE-8733-4047-89B9-F81718AA5CD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2F18-0A34-4089-BD4F-C41266B7A31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B45F-2F89-431C-AE66-C6574CA0CEA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5678-3419-4EDD-BC35-60C92A4F4F7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5D3328-C406-471A-AECE-2F67CC3B493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2F0106-247E-402C-BDF7-AC7C58A74DB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2E94F3-2080-4AAA-BD5A-8CE28DF6681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193374-76B6-4D5A-8016-33587B59404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41C87C-2FA4-44AD-B4C5-D03B49FCFF6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87FF31-E679-4849-A7BF-C6F74E47833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2B6F6C-A023-4801-BE6C-1716332065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EB39E-BEAE-4790-BBCC-BF702ACF731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36F3BE-6C48-42E3-BB17-44F018BA3B4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09DEF8-7ABB-4DFC-AABD-02F57D92E24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0F3CDE-B15D-45FC-9CEA-218C7092C32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AEB682-B9DC-44CA-8E44-2FE90060C2D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D69885-9D3C-475F-B7D4-1722E52FBC3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7F432E-61AB-47CB-999E-41E4535424F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68B4D6-0E7A-4296-9B47-000A0CEBD39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086061-BB9F-4DDD-8677-F5B44FC6C81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ED623B-0454-49E3-97EE-AB52CF38FEB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8A7EB6-6504-4A3F-92C8-63235099E2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46735-2FCE-4FDC-9A39-0A0E903767C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147F91-0CBE-4A0B-A47A-A910B454586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362DA9-5488-464D-B0E6-7682F3204C7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A40E8B-2C20-4ACF-87A9-A2DECD3D385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CFC101-0952-4A0B-B790-F77EA9E0CEC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B24366-15F5-4E5C-8113-5202B48CA1F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6E4516-EABF-4DB9-8888-5766626ED57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4D5CFD-2155-466C-B26A-824659BB37F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3EBB9-B5C4-4CAA-B6D8-360D0B00D46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753DB-D7B8-4AD1-BE1A-5BE5115C279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7F40B-023C-430C-BAD0-5F02228C11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26560" y="6495840"/>
            <a:ext cx="2653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3684E7-31A9-4D3E-BC48-146CB7C7A8FD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4205160" y="6472080"/>
            <a:ext cx="4900680" cy="396360"/>
            <a:chOff x="4205160" y="6472080"/>
            <a:chExt cx="4900680" cy="396360"/>
          </a:xfrm>
        </p:grpSpPr>
        <p:pic>
          <p:nvPicPr>
            <p:cNvPr id="4" name="image1.gif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Shape 6"/>
            <p:cNvSpPr/>
            <p:nvPr/>
          </p:nvSpPr>
          <p:spPr>
            <a:xfrm>
              <a:off x="4205160" y="6472080"/>
              <a:ext cx="4900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" name="Shape 8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Group 128"/>
          <p:cNvGrpSpPr/>
          <p:nvPr/>
        </p:nvGrpSpPr>
        <p:grpSpPr>
          <a:xfrm>
            <a:off x="4205160" y="6472080"/>
            <a:ext cx="4900680" cy="396360"/>
            <a:chOff x="4205160" y="6472080"/>
            <a:chExt cx="4900680" cy="396360"/>
          </a:xfrm>
        </p:grpSpPr>
        <p:pic>
          <p:nvPicPr>
            <p:cNvPr id="385" name="image1.gif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Shape 127"/>
            <p:cNvSpPr/>
            <p:nvPr/>
          </p:nvSpPr>
          <p:spPr>
            <a:xfrm>
              <a:off x="4205160" y="6472080"/>
              <a:ext cx="4900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7" name="Group 131"/>
          <p:cNvGrpSpPr/>
          <p:nvPr/>
        </p:nvGrpSpPr>
        <p:grpSpPr>
          <a:xfrm>
            <a:off x="3614760" y="6411960"/>
            <a:ext cx="5527800" cy="446040"/>
            <a:chOff x="3614760" y="6411960"/>
            <a:chExt cx="5527800" cy="446040"/>
          </a:xfrm>
        </p:grpSpPr>
        <p:pic>
          <p:nvPicPr>
            <p:cNvPr id="388" name="image1.gif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Shape 130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9000" bIns="9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10"/>
          </p:nvPr>
        </p:nvSpPr>
        <p:spPr>
          <a:xfrm>
            <a:off x="566640" y="6523560"/>
            <a:ext cx="2635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18C1AC-7D0E-470A-9906-5E0508919E9C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Group 142"/>
          <p:cNvGrpSpPr/>
          <p:nvPr/>
        </p:nvGrpSpPr>
        <p:grpSpPr>
          <a:xfrm>
            <a:off x="219240" y="219240"/>
            <a:ext cx="8886600" cy="6649560"/>
            <a:chOff x="219240" y="219240"/>
            <a:chExt cx="8886600" cy="6649560"/>
          </a:xfrm>
        </p:grpSpPr>
        <p:pic>
          <p:nvPicPr>
            <p:cNvPr id="430" name="image1.gif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Shape 140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Shape 141"/>
            <p:cNvSpPr/>
            <p:nvPr/>
          </p:nvSpPr>
          <p:spPr>
            <a:xfrm>
              <a:off x="4205880" y="6472440"/>
              <a:ext cx="48999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11"/>
          </p:nvPr>
        </p:nvSpPr>
        <p:spPr>
          <a:xfrm>
            <a:off x="566640" y="6523560"/>
            <a:ext cx="2635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C8D30E-09A5-4049-B9D2-3BFF9AC2CF95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Group 152"/>
          <p:cNvGrpSpPr/>
          <p:nvPr/>
        </p:nvGrpSpPr>
        <p:grpSpPr>
          <a:xfrm>
            <a:off x="4205160" y="6472080"/>
            <a:ext cx="4900680" cy="396360"/>
            <a:chOff x="4205160" y="6472080"/>
            <a:chExt cx="4900680" cy="396360"/>
          </a:xfrm>
        </p:grpSpPr>
        <p:pic>
          <p:nvPicPr>
            <p:cNvPr id="473" name="image1.gif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Shape 151"/>
            <p:cNvSpPr/>
            <p:nvPr/>
          </p:nvSpPr>
          <p:spPr>
            <a:xfrm>
              <a:off x="4205160" y="6472080"/>
              <a:ext cx="4900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5" name="Group 155"/>
          <p:cNvGrpSpPr/>
          <p:nvPr/>
        </p:nvGrpSpPr>
        <p:grpSpPr>
          <a:xfrm>
            <a:off x="3614760" y="6411960"/>
            <a:ext cx="5527800" cy="446040"/>
            <a:chOff x="3614760" y="6411960"/>
            <a:chExt cx="5527800" cy="446040"/>
          </a:xfrm>
        </p:grpSpPr>
        <p:pic>
          <p:nvPicPr>
            <p:cNvPr id="476" name="image1.gif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Shape 154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9000" bIns="9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sldNum" idx="12"/>
          </p:nvPr>
        </p:nvSpPr>
        <p:spPr>
          <a:xfrm>
            <a:off x="566640" y="6523560"/>
            <a:ext cx="2635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69D9DE-ED9A-4415-BA54-2EF227555246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169"/>
          <p:cNvGrpSpPr/>
          <p:nvPr/>
        </p:nvGrpSpPr>
        <p:grpSpPr>
          <a:xfrm>
            <a:off x="219240" y="219240"/>
            <a:ext cx="8886600" cy="6649560"/>
            <a:chOff x="219240" y="219240"/>
            <a:chExt cx="8886600" cy="6649560"/>
          </a:xfrm>
        </p:grpSpPr>
        <p:pic>
          <p:nvPicPr>
            <p:cNvPr id="518" name="image1.gif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Shape 167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Shape 168"/>
            <p:cNvSpPr/>
            <p:nvPr/>
          </p:nvSpPr>
          <p:spPr>
            <a:xfrm>
              <a:off x="4205880" y="6472440"/>
              <a:ext cx="48999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sldNum" idx="13"/>
          </p:nvPr>
        </p:nvSpPr>
        <p:spPr>
          <a:xfrm>
            <a:off x="566640" y="6523560"/>
            <a:ext cx="2635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0FFCD5-A557-4C23-A119-2CEB9D82C108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182"/>
          <p:cNvGrpSpPr/>
          <p:nvPr/>
        </p:nvGrpSpPr>
        <p:grpSpPr>
          <a:xfrm>
            <a:off x="4205160" y="6472080"/>
            <a:ext cx="4900680" cy="396360"/>
            <a:chOff x="4205160" y="6472080"/>
            <a:chExt cx="4900680" cy="396360"/>
          </a:xfrm>
        </p:grpSpPr>
        <p:pic>
          <p:nvPicPr>
            <p:cNvPr id="561" name="image1.gif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Shape 181"/>
            <p:cNvSpPr/>
            <p:nvPr/>
          </p:nvSpPr>
          <p:spPr>
            <a:xfrm>
              <a:off x="4205160" y="6472080"/>
              <a:ext cx="4900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3" name="Group 185"/>
          <p:cNvGrpSpPr/>
          <p:nvPr/>
        </p:nvGrpSpPr>
        <p:grpSpPr>
          <a:xfrm>
            <a:off x="3614760" y="6411960"/>
            <a:ext cx="5527800" cy="446040"/>
            <a:chOff x="3614760" y="6411960"/>
            <a:chExt cx="5527800" cy="446040"/>
          </a:xfrm>
        </p:grpSpPr>
        <p:pic>
          <p:nvPicPr>
            <p:cNvPr id="564" name="image1.gif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Shape 184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9000" bIns="9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sldNum" idx="14"/>
          </p:nvPr>
        </p:nvSpPr>
        <p:spPr>
          <a:xfrm>
            <a:off x="566640" y="6523560"/>
            <a:ext cx="2635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7D6242-9E61-46B2-98CB-651D4766F509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Shape 195"/>
          <p:cNvSpPr/>
          <p:nvPr/>
        </p:nvSpPr>
        <p:spPr>
          <a:xfrm>
            <a:off x="955800" y="6537240"/>
            <a:ext cx="103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88888"/>
                </a:solidFill>
                <a:latin typeface="Calibri"/>
              </a:rPr>
              <a:t>10/12/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hape 196"/>
          <p:cNvSpPr/>
          <p:nvPr/>
        </p:nvSpPr>
        <p:spPr>
          <a:xfrm>
            <a:off x="41400" y="6527880"/>
            <a:ext cx="7887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7" name="Group 200"/>
          <p:cNvGrpSpPr/>
          <p:nvPr/>
        </p:nvGrpSpPr>
        <p:grpSpPr>
          <a:xfrm>
            <a:off x="219240" y="219240"/>
            <a:ext cx="8886600" cy="6649560"/>
            <a:chOff x="219240" y="219240"/>
            <a:chExt cx="8886600" cy="6649560"/>
          </a:xfrm>
        </p:grpSpPr>
        <p:pic>
          <p:nvPicPr>
            <p:cNvPr id="608" name="image1.gif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Shape 198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Shape 199"/>
            <p:cNvSpPr/>
            <p:nvPr/>
          </p:nvSpPr>
          <p:spPr>
            <a:xfrm>
              <a:off x="4205880" y="6472440"/>
              <a:ext cx="48999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sldNum" idx="15"/>
          </p:nvPr>
        </p:nvSpPr>
        <p:spPr>
          <a:xfrm>
            <a:off x="8251920" y="6400440"/>
            <a:ext cx="2635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254EC9-E4C3-4A48-B88B-06A2F54F3209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Group 212"/>
          <p:cNvGrpSpPr/>
          <p:nvPr/>
        </p:nvGrpSpPr>
        <p:grpSpPr>
          <a:xfrm>
            <a:off x="4205160" y="6472080"/>
            <a:ext cx="4900680" cy="396360"/>
            <a:chOff x="4205160" y="6472080"/>
            <a:chExt cx="4900680" cy="396360"/>
          </a:xfrm>
        </p:grpSpPr>
        <p:pic>
          <p:nvPicPr>
            <p:cNvPr id="651" name="image1.gif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Shape 211"/>
            <p:cNvSpPr/>
            <p:nvPr/>
          </p:nvSpPr>
          <p:spPr>
            <a:xfrm>
              <a:off x="4205160" y="6472080"/>
              <a:ext cx="4900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anual for Healthcare Professional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: 1</a:t>
              </a:r>
              <a:r>
                <a:rPr b="0" lang="en-US" sz="1000" spc="-1" strike="noStrike" baseline="30000">
                  <a:solidFill>
                    <a:srgbClr val="ff0000"/>
                  </a:solidFill>
                  <a:latin typeface="Calibri"/>
                </a:rPr>
                <a:t>st</a:t>
              </a: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 Edition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3" name="Group 216"/>
          <p:cNvGrpSpPr/>
          <p:nvPr/>
        </p:nvGrpSpPr>
        <p:grpSpPr>
          <a:xfrm>
            <a:off x="3614760" y="6411960"/>
            <a:ext cx="5527800" cy="456840"/>
            <a:chOff x="3614760" y="6411960"/>
            <a:chExt cx="5527800" cy="456840"/>
          </a:xfrm>
        </p:grpSpPr>
        <p:pic>
          <p:nvPicPr>
            <p:cNvPr id="654" name="image1.gif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Shape 214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9000" bIns="9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Shape 215"/>
            <p:cNvSpPr/>
            <p:nvPr/>
          </p:nvSpPr>
          <p:spPr>
            <a:xfrm>
              <a:off x="4205520" y="6472440"/>
              <a:ext cx="49014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anual for Healthcare Professional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: 1</a:t>
              </a:r>
              <a:r>
                <a:rPr b="0" lang="en-US" sz="1000" spc="-1" strike="noStrike" baseline="30000">
                  <a:solidFill>
                    <a:srgbClr val="ff0000"/>
                  </a:solidFill>
                  <a:latin typeface="Calibri"/>
                </a:rPr>
                <a:t>st</a:t>
              </a: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 Edition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Num" idx="16"/>
          </p:nvPr>
        </p:nvSpPr>
        <p:spPr>
          <a:xfrm>
            <a:off x="566640" y="6523560"/>
            <a:ext cx="2635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6B16AC-68B5-4033-944C-99115031728D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sldNum" idx="17"/>
          </p:nvPr>
        </p:nvSpPr>
        <p:spPr>
          <a:xfrm>
            <a:off x="8251920" y="6400440"/>
            <a:ext cx="2635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62FC20-C6BE-4765-9CE4-870694F2E040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sldNum" idx="18"/>
          </p:nvPr>
        </p:nvSpPr>
        <p:spPr>
          <a:xfrm>
            <a:off x="8251920" y="6400440"/>
            <a:ext cx="2635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EA868E-7361-4A57-BED5-056F43127EE5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sldNum" idx="19"/>
          </p:nvPr>
        </p:nvSpPr>
        <p:spPr>
          <a:xfrm>
            <a:off x="8251920" y="6400440"/>
            <a:ext cx="2635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3BC8A1-278D-48C7-BFA9-15C3A1C2B101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826560" y="6495840"/>
            <a:ext cx="2653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75D45D-7ED7-416A-9152-F6D706BF871D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8251920" y="6400440"/>
            <a:ext cx="2635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3750B2-ECD2-48C4-B2FA-8130FAFF07A4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sldNum" idx="21"/>
          </p:nvPr>
        </p:nvSpPr>
        <p:spPr>
          <a:xfrm>
            <a:off x="8251920" y="6400440"/>
            <a:ext cx="2635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703DDC-A416-4ADC-8CB8-D602C90D0EB0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 type="sldNum" idx="22"/>
          </p:nvPr>
        </p:nvSpPr>
        <p:spPr>
          <a:xfrm>
            <a:off x="8251920" y="6400440"/>
            <a:ext cx="2635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0406D3-F8AB-4350-B253-657A2E77CA29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 type="sldNum" idx="23"/>
          </p:nvPr>
        </p:nvSpPr>
        <p:spPr>
          <a:xfrm>
            <a:off x="8251920" y="6400440"/>
            <a:ext cx="2635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43BF01-F612-4D26-A45A-42487815AF90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 type="sldNum" idx="24"/>
          </p:nvPr>
        </p:nvSpPr>
        <p:spPr>
          <a:xfrm>
            <a:off x="8251920" y="6400440"/>
            <a:ext cx="2635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448D42-D887-416D-810D-A0A8F6574EEB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 type="sldNum" idx="25"/>
          </p:nvPr>
        </p:nvSpPr>
        <p:spPr>
          <a:xfrm>
            <a:off x="8251920" y="6400440"/>
            <a:ext cx="2635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DD0981-AF41-4F79-89C9-15FEFFFD6BCE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 type="sldNum" idx="26"/>
          </p:nvPr>
        </p:nvSpPr>
        <p:spPr>
          <a:xfrm>
            <a:off x="8251920" y="6400440"/>
            <a:ext cx="2635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78C508-5374-4F10-A79F-48A5311844DF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7"/>
          </p:nvPr>
        </p:nvSpPr>
        <p:spPr>
          <a:xfrm>
            <a:off x="8251920" y="6400440"/>
            <a:ext cx="2635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FB8BDA-9F08-4529-9546-6E7EBFE26F73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1.gif" descr=""/>
          <p:cNvPicPr/>
          <p:nvPr/>
        </p:nvPicPr>
        <p:blipFill>
          <a:blip r:embed="rId2"/>
          <a:stretch/>
        </p:blipFill>
        <p:spPr>
          <a:xfrm>
            <a:off x="8639280" y="6486480"/>
            <a:ext cx="390600" cy="371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826560" y="6495840"/>
            <a:ext cx="2653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6973F9-8FBD-4FCD-927C-15F776FCCF54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49"/>
          <p:cNvGrpSpPr/>
          <p:nvPr/>
        </p:nvGrpSpPr>
        <p:grpSpPr>
          <a:xfrm>
            <a:off x="3614760" y="6411960"/>
            <a:ext cx="5527800" cy="456840"/>
            <a:chOff x="3614760" y="6411960"/>
            <a:chExt cx="5527800" cy="456840"/>
          </a:xfrm>
        </p:grpSpPr>
        <p:pic>
          <p:nvPicPr>
            <p:cNvPr id="123" name="image1.gif" descr=""/>
            <p:cNvPicPr/>
            <p:nvPr/>
          </p:nvPicPr>
          <p:blipFill>
            <a:blip r:embed="rId2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Shape 47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9000" bIns="9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Shape 48"/>
            <p:cNvSpPr/>
            <p:nvPr/>
          </p:nvSpPr>
          <p:spPr>
            <a:xfrm>
              <a:off x="4205520" y="6472440"/>
              <a:ext cx="49014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4"/>
          </p:nvPr>
        </p:nvSpPr>
        <p:spPr>
          <a:xfrm>
            <a:off x="826560" y="6495840"/>
            <a:ext cx="2653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1C5664-497A-4348-8E58-BC0E34FA30C5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62"/>
          <p:cNvGrpSpPr/>
          <p:nvPr/>
        </p:nvGrpSpPr>
        <p:grpSpPr>
          <a:xfrm>
            <a:off x="219240" y="219240"/>
            <a:ext cx="8886600" cy="6649560"/>
            <a:chOff x="219240" y="219240"/>
            <a:chExt cx="8886600" cy="6649560"/>
          </a:xfrm>
        </p:grpSpPr>
        <p:pic>
          <p:nvPicPr>
            <p:cNvPr id="166" name="image1.gif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Shape 60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Shape 61"/>
            <p:cNvSpPr/>
            <p:nvPr/>
          </p:nvSpPr>
          <p:spPr>
            <a:xfrm>
              <a:off x="4205880" y="6472440"/>
              <a:ext cx="48999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5"/>
          </p:nvPr>
        </p:nvSpPr>
        <p:spPr>
          <a:xfrm>
            <a:off x="566640" y="6523560"/>
            <a:ext cx="2635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3C3AF1-497B-4FF7-A231-8D034BAE0EBE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74"/>
          <p:cNvGrpSpPr/>
          <p:nvPr/>
        </p:nvGrpSpPr>
        <p:grpSpPr>
          <a:xfrm>
            <a:off x="4205160" y="6472080"/>
            <a:ext cx="4900680" cy="396360"/>
            <a:chOff x="4205160" y="6472080"/>
            <a:chExt cx="4900680" cy="396360"/>
          </a:xfrm>
        </p:grpSpPr>
        <p:pic>
          <p:nvPicPr>
            <p:cNvPr id="209" name="image1.gif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Shape 73"/>
            <p:cNvSpPr/>
            <p:nvPr/>
          </p:nvSpPr>
          <p:spPr>
            <a:xfrm>
              <a:off x="4205160" y="6472080"/>
              <a:ext cx="4900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Group 77"/>
          <p:cNvGrpSpPr/>
          <p:nvPr/>
        </p:nvGrpSpPr>
        <p:grpSpPr>
          <a:xfrm>
            <a:off x="3614760" y="6411960"/>
            <a:ext cx="5527800" cy="446040"/>
            <a:chOff x="3614760" y="6411960"/>
            <a:chExt cx="5527800" cy="446040"/>
          </a:xfrm>
        </p:grpSpPr>
        <p:pic>
          <p:nvPicPr>
            <p:cNvPr id="212" name="image1.gif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Shape 76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9000" bIns="9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6"/>
          </p:nvPr>
        </p:nvSpPr>
        <p:spPr>
          <a:xfrm>
            <a:off x="566640" y="6523560"/>
            <a:ext cx="2635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5B9B9F-A547-47A7-BA4D-7417B729E211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90"/>
          <p:cNvGrpSpPr/>
          <p:nvPr/>
        </p:nvGrpSpPr>
        <p:grpSpPr>
          <a:xfrm>
            <a:off x="219240" y="219240"/>
            <a:ext cx="8886600" cy="6649560"/>
            <a:chOff x="219240" y="219240"/>
            <a:chExt cx="8886600" cy="6649560"/>
          </a:xfrm>
        </p:grpSpPr>
        <p:pic>
          <p:nvPicPr>
            <p:cNvPr id="254" name="image1.gif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Shape 88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Shape 89"/>
            <p:cNvSpPr/>
            <p:nvPr/>
          </p:nvSpPr>
          <p:spPr>
            <a:xfrm>
              <a:off x="4205880" y="6472440"/>
              <a:ext cx="48999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Num" idx="7"/>
          </p:nvPr>
        </p:nvSpPr>
        <p:spPr>
          <a:xfrm>
            <a:off x="566640" y="6523560"/>
            <a:ext cx="2635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C5C1FD-63DD-4D27-BDF7-6C9092CE06CB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102"/>
          <p:cNvGrpSpPr/>
          <p:nvPr/>
        </p:nvGrpSpPr>
        <p:grpSpPr>
          <a:xfrm>
            <a:off x="4205160" y="6472080"/>
            <a:ext cx="4900680" cy="396360"/>
            <a:chOff x="4205160" y="6472080"/>
            <a:chExt cx="4900680" cy="396360"/>
          </a:xfrm>
        </p:grpSpPr>
        <p:pic>
          <p:nvPicPr>
            <p:cNvPr id="297" name="image1.gif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Shape 101"/>
            <p:cNvSpPr/>
            <p:nvPr/>
          </p:nvSpPr>
          <p:spPr>
            <a:xfrm>
              <a:off x="4205160" y="6472080"/>
              <a:ext cx="4900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9" name="Group 105"/>
          <p:cNvGrpSpPr/>
          <p:nvPr/>
        </p:nvGrpSpPr>
        <p:grpSpPr>
          <a:xfrm>
            <a:off x="3614760" y="6411960"/>
            <a:ext cx="5527800" cy="446040"/>
            <a:chOff x="3614760" y="6411960"/>
            <a:chExt cx="5527800" cy="446040"/>
          </a:xfrm>
        </p:grpSpPr>
        <p:pic>
          <p:nvPicPr>
            <p:cNvPr id="300" name="image1.gif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Shape 104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9000" bIns="9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8"/>
          </p:nvPr>
        </p:nvSpPr>
        <p:spPr>
          <a:xfrm>
            <a:off x="566640" y="6523560"/>
            <a:ext cx="2635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773764-2F5B-407A-AA59-0B7F92A09F5A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Group 117"/>
          <p:cNvGrpSpPr/>
          <p:nvPr/>
        </p:nvGrpSpPr>
        <p:grpSpPr>
          <a:xfrm>
            <a:off x="219240" y="219240"/>
            <a:ext cx="8886600" cy="6649560"/>
            <a:chOff x="219240" y="219240"/>
            <a:chExt cx="8886600" cy="6649560"/>
          </a:xfrm>
        </p:grpSpPr>
        <p:pic>
          <p:nvPicPr>
            <p:cNvPr id="342" name="image1.gif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Shape 115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Shape 116"/>
            <p:cNvSpPr/>
            <p:nvPr/>
          </p:nvSpPr>
          <p:spPr>
            <a:xfrm>
              <a:off x="4205880" y="6472440"/>
              <a:ext cx="48999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Num" idx="9"/>
          </p:nvPr>
        </p:nvSpPr>
        <p:spPr>
          <a:xfrm>
            <a:off x="566640" y="6523560"/>
            <a:ext cx="2635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89E34A-1A56-4BB1-A2A0-A838881348DE}" type="slidenum"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23880" y="993600"/>
            <a:ext cx="7886880" cy="208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Calibri"/>
                <a:ea typeface="Calibri"/>
              </a:rPr>
              <a:t>Training Module CPG T1DM - Complications of T1DM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2854440" y="4078080"/>
            <a:ext cx="5656320" cy="201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alibri"/>
              </a:rPr>
              <a:t>Dr. Janet Hong Yeow Hu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alibri"/>
              </a:rPr>
              <a:t>Consultant Paediatric Endocrinolog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alibri"/>
              </a:rPr>
              <a:t>Hospital Putrajaya, Putraja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7" name="image2.png" descr=""/>
          <p:cNvPicPr/>
          <p:nvPr/>
        </p:nvPicPr>
        <p:blipFill>
          <a:blip r:embed="rId1"/>
          <a:stretch/>
        </p:blipFill>
        <p:spPr>
          <a:xfrm>
            <a:off x="757080" y="2992320"/>
            <a:ext cx="2071800" cy="3195720"/>
          </a:xfrm>
          <a:prstGeom prst="rect">
            <a:avLst/>
          </a:prstGeom>
          <a:ln w="0">
            <a:noFill/>
          </a:ln>
        </p:spPr>
      </p:pic>
      <p:sp>
        <p:nvSpPr>
          <p:cNvPr id="1128" name="Shape 327"/>
          <p:cNvSpPr/>
          <p:nvPr/>
        </p:nvSpPr>
        <p:spPr>
          <a:xfrm>
            <a:off x="369000" y="652392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1F2E73-CCF2-4B40-9E7F-B27689B848E5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28560" y="6415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Calibri"/>
                <a:ea typeface="Calibri"/>
              </a:rPr>
              <a:t>Neuropathy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28560" y="1844640"/>
            <a:ext cx="7886880" cy="417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81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Calibri"/>
              </a:rPr>
              <a:t>Based on nerve conduction study, 57% of children with a mean diabetes duration of 8.1</a:t>
            </a:r>
            <a:r>
              <a:rPr b="0" sz="2800" spc="-1" strike="noStrike" u="sng">
                <a:solidFill>
                  <a:srgbClr val="000000"/>
                </a:solidFill>
                <a:uFillTx/>
                <a:latin typeface="Calibri"/>
              </a:rPr>
              <a:t>+</a:t>
            </a:r>
            <a:r>
              <a:rPr b="0" sz="2800" spc="-1" strike="noStrike">
                <a:solidFill>
                  <a:srgbClr val="000000"/>
                </a:solidFill>
                <a:latin typeface="Calibri"/>
              </a:rPr>
              <a:t>2.6 years &amp; mean HbA1c of 9.0</a:t>
            </a:r>
            <a:r>
              <a:rPr b="0" sz="2800" spc="-1" strike="noStrike" u="sng">
                <a:solidFill>
                  <a:srgbClr val="000000"/>
                </a:solidFill>
                <a:uFillTx/>
                <a:latin typeface="Calibri"/>
              </a:rPr>
              <a:t>+</a:t>
            </a:r>
            <a:r>
              <a:rPr b="0" sz="2800" spc="-1" strike="noStrike">
                <a:solidFill>
                  <a:srgbClr val="000000"/>
                </a:solidFill>
                <a:latin typeface="Calibri"/>
              </a:rPr>
              <a:t>1.0% had diabetic neuropathy.</a:t>
            </a:r>
            <a:r>
              <a:rPr b="0" sz="2800" spc="-1" strike="noStrike" baseline="30000">
                <a:solidFill>
                  <a:srgbClr val="000000"/>
                </a:solidFill>
                <a:latin typeface="Calibri"/>
              </a:rPr>
              <a:t>130</a:t>
            </a:r>
            <a:r>
              <a:rPr b="0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1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Calibri"/>
              </a:rPr>
              <a:t>Using nerve conduction study as a gold standard, the sensitivity &amp; specificity of </a:t>
            </a:r>
            <a:r>
              <a:rPr b="1" sz="2800" spc="-1" strike="noStrike">
                <a:solidFill>
                  <a:srgbClr val="000000"/>
                </a:solidFill>
                <a:latin typeface="Calibri"/>
              </a:rPr>
              <a:t>vibration perception </a:t>
            </a:r>
            <a:r>
              <a:rPr b="0" sz="2800" spc="-1" strike="noStrike">
                <a:solidFill>
                  <a:srgbClr val="000000"/>
                </a:solidFill>
                <a:latin typeface="Calibri"/>
              </a:rPr>
              <a:t>thresholds were 62% &amp; 65% respectively, while the sensitivity &amp; specificity of </a:t>
            </a:r>
            <a:r>
              <a:rPr b="1" sz="2800" spc="-1" strike="noStrike">
                <a:solidFill>
                  <a:srgbClr val="000000"/>
                </a:solidFill>
                <a:latin typeface="Calibri"/>
              </a:rPr>
              <a:t>tactile perception </a:t>
            </a:r>
            <a:r>
              <a:rPr b="0" sz="2800" spc="-1" strike="noStrike">
                <a:solidFill>
                  <a:srgbClr val="000000"/>
                </a:solidFill>
                <a:latin typeface="Calibri"/>
              </a:rPr>
              <a:t>thresholds were 19% &amp; 64% respectively.</a:t>
            </a:r>
            <a:r>
              <a:rPr b="0" sz="2800" spc="-1" strike="noStrike" baseline="30000">
                <a:solidFill>
                  <a:srgbClr val="000000"/>
                </a:solidFill>
                <a:latin typeface="Calibri"/>
              </a:rPr>
              <a:t>1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1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1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</a:rPr>
              <a:t>130. Nelson D, et al. Pediatr Diabetes. 2006;7(6):305-3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Shape 363"/>
          <p:cNvSpPr/>
          <p:nvPr/>
        </p:nvSpPr>
        <p:spPr>
          <a:xfrm>
            <a:off x="590400" y="64958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842913-459E-418B-9BB3-53152ADA58FC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28560" y="6415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Calibri"/>
                <a:ea typeface="Calibri"/>
              </a:rPr>
              <a:t>Macrovascular complications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28560" y="1844280"/>
            <a:ext cx="7886880" cy="4248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81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Aortic intima media thickness is greater in T1DM children compared with control subjects (p&lt;0.001).</a:t>
            </a:r>
            <a:r>
              <a:rPr b="0" sz="2400" spc="-1" strike="noStrike" baseline="30000">
                <a:solidFill>
                  <a:srgbClr val="000000"/>
                </a:solidFill>
                <a:latin typeface="Calibri"/>
              </a:rPr>
              <a:t>131</a:t>
            </a:r>
            <a:r>
              <a:rPr b="0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1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Vascular function is worse in children with T1DM who have an aortic intima media thickness &gt;95th percentile compared with control subjects.</a:t>
            </a:r>
            <a:r>
              <a:rPr b="0" sz="2400" spc="-1" strike="noStrike" baseline="30000">
                <a:solidFill>
                  <a:srgbClr val="000000"/>
                </a:solidFill>
                <a:latin typeface="Calibri"/>
              </a:rPr>
              <a:t>13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1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Factors independently correlated with carotid intima media thickness in children are:</a:t>
            </a:r>
            <a:r>
              <a:rPr b="0" sz="2400" spc="-1" strike="noStrike" baseline="30000">
                <a:solidFill>
                  <a:srgbClr val="000000"/>
                </a:solidFill>
                <a:latin typeface="Calibri"/>
              </a:rPr>
              <a:t>13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81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alibri"/>
              </a:rPr>
              <a:t>type 1 diabetes (p&lt;0.00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81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alibri"/>
              </a:rPr>
              <a:t>systolic blood pressure (p&lt;0.00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81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alibri"/>
              </a:rPr>
              <a:t>LDL cholesterol level (p&lt;0.00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0">
              <a:lnSpc>
                <a:spcPct val="81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</a:rPr>
              <a:t>131. Harrington J, et al. J Pediatr. 2010;156(2):237-24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</a:rPr>
              <a:t>132. Järvisalo MJ, et al. Diabetes. 2002;51(2):493-49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Shape 367"/>
          <p:cNvSpPr/>
          <p:nvPr/>
        </p:nvSpPr>
        <p:spPr>
          <a:xfrm>
            <a:off x="590400" y="64958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AB036D-F7AA-47A5-BD23-194FEA0B95D1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28560" y="260280"/>
            <a:ext cx="7886880" cy="820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sz="2500" spc="-1" strike="noStrike">
                <a:solidFill>
                  <a:srgbClr val="000000"/>
                </a:solidFill>
                <a:latin typeface="Calibri"/>
                <a:ea typeface="Calibri"/>
              </a:rPr>
              <a:t>Screening, risk factors &amp; interventions for vascular complications in T1DM </a:t>
            </a: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0" name="Shape 370"/>
          <p:cNvSpPr/>
          <p:nvPr/>
        </p:nvSpPr>
        <p:spPr>
          <a:xfrm>
            <a:off x="590400" y="64958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1D60AF-1655-4C2C-A8D3-628D991DFCDF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1" name="image3.png" descr=""/>
          <p:cNvPicPr/>
          <p:nvPr/>
        </p:nvPicPr>
        <p:blipFill>
          <a:blip r:embed="rId1"/>
          <a:stretch/>
        </p:blipFill>
        <p:spPr>
          <a:xfrm>
            <a:off x="407880" y="1052640"/>
            <a:ext cx="8210520" cy="5746680"/>
          </a:xfrm>
          <a:prstGeom prst="rect">
            <a:avLst/>
          </a:prstGeom>
          <a:ln w="0">
            <a:noFill/>
          </a:ln>
        </p:spPr>
      </p:pic>
      <p:sp>
        <p:nvSpPr>
          <p:cNvPr id="1162" name="Shape 372"/>
          <p:cNvSpPr/>
          <p:nvPr/>
        </p:nvSpPr>
        <p:spPr>
          <a:xfrm>
            <a:off x="551880" y="6527880"/>
            <a:ext cx="801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1200" spc="-1" strike="noStrike">
                <a:solidFill>
                  <a:srgbClr val="000000"/>
                </a:solidFill>
                <a:latin typeface="Calibri"/>
              </a:rPr>
              <a:t>Modified: </a:t>
            </a:r>
            <a:r>
              <a:rPr b="0" sz="1200" spc="-1" strike="noStrike">
                <a:solidFill>
                  <a:srgbClr val="000000"/>
                </a:solidFill>
                <a:latin typeface="Calibri"/>
              </a:rPr>
              <a:t>International Society for Pediatric and Adolescent Diabetes (ISPAD).Pediatic Diabetes. Oxford:  Wiley  Blackwell; 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Shape 374"/>
          <p:cNvSpPr/>
          <p:nvPr/>
        </p:nvSpPr>
        <p:spPr>
          <a:xfrm>
            <a:off x="590400" y="64958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3D4783-3CC3-48AF-80B6-10B55B0E39DC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4" name="image4.png" descr=""/>
          <p:cNvPicPr/>
          <p:nvPr/>
        </p:nvPicPr>
        <p:blipFill>
          <a:blip r:embed="rId1"/>
          <a:stretch/>
        </p:blipFill>
        <p:spPr>
          <a:xfrm>
            <a:off x="469800" y="2133720"/>
            <a:ext cx="8266320" cy="247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28560" y="404640"/>
            <a:ext cx="7886880" cy="758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Calibri"/>
                <a:ea typeface="Calibri"/>
              </a:rPr>
              <a:t>Dyslipidaemi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03000" y="1349280"/>
            <a:ext cx="7886520" cy="495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3920" indent="-223920">
              <a:lnSpc>
                <a:spcPct val="72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Young patients with T1DM demonstrate significantly higher levels of total cholesterol, LDL, triglyceride, lipoprotein(a) &amp; apolipoprotein B compared with non-diabetics.</a:t>
            </a:r>
            <a:r>
              <a:rPr b="0" sz="2400" spc="-1" strike="noStrike" baseline="30000">
                <a:solidFill>
                  <a:srgbClr val="000000"/>
                </a:solidFill>
                <a:latin typeface="Calibri"/>
              </a:rPr>
              <a:t>13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72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Screening for dyslipidaemia should be done soon after diagnosis in all children with T1DM aged &gt;10 years old.</a:t>
            </a:r>
            <a:r>
              <a:rPr b="0" sz="24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r>
              <a:rPr b="0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1720" indent="-264960">
              <a:lnSpc>
                <a:spcPct val="72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sz="2000" spc="-1" strike="noStrike">
                <a:solidFill>
                  <a:srgbClr val="000000"/>
                </a:solidFill>
                <a:latin typeface="Calibri"/>
              </a:rPr>
              <a:t>If the result is normal, it should be repeated every 5 year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31720" indent="-264960">
              <a:lnSpc>
                <a:spcPct val="72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sz="2000" spc="-1" strike="noStrike">
                <a:solidFill>
                  <a:srgbClr val="000000"/>
                </a:solidFill>
                <a:latin typeface="Calibri"/>
              </a:rPr>
              <a:t>In those with strong family history of hypercholesterolaemia, premature cardiovascular disease or if the family history is unknown, screening should be performed as early as 2 years o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72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If the LDL is high (&gt;2.6 mmol/L), intervention to improve metabolic control, dietary changes &amp; exercise should be emphasised.</a:t>
            </a:r>
            <a:r>
              <a:rPr b="0" sz="24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1720" indent="-264960">
              <a:lnSpc>
                <a:spcPct val="72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sz="2000" spc="-1" strike="noStrike">
                <a:solidFill>
                  <a:srgbClr val="000000"/>
                </a:solidFill>
                <a:latin typeface="Calibri"/>
              </a:rPr>
              <a:t>Although long-term safety is not established, statin should be considered in children &gt;10 years old if LDL is &gt;4.1 mmol/L (or &gt;3.4 mmol/L if one or more cardiovascular risk factors is present) despite the above interven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31720" indent="0">
              <a:lnSpc>
                <a:spcPct val="72000"/>
              </a:lnSpc>
              <a:spcBef>
                <a:spcPts val="400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3920" indent="0">
              <a:lnSpc>
                <a:spcPct val="72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</a:rPr>
              <a:t>134. Glowinska B, et al. Atherosclerosis. 2003;167(2):275-28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Shape 379"/>
          <p:cNvSpPr/>
          <p:nvPr/>
        </p:nvSpPr>
        <p:spPr>
          <a:xfrm>
            <a:off x="590400" y="64958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76833F-107D-4FD5-A1DE-815A7D666D11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Shape 381"/>
          <p:cNvSpPr/>
          <p:nvPr/>
        </p:nvSpPr>
        <p:spPr>
          <a:xfrm>
            <a:off x="590400" y="64958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F904FD-424B-4B8A-B60F-A27EA4EA5553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9" name="image5.png" descr=""/>
          <p:cNvPicPr/>
          <p:nvPr/>
        </p:nvPicPr>
        <p:blipFill>
          <a:blip r:embed="rId1"/>
          <a:stretch/>
        </p:blipFill>
        <p:spPr>
          <a:xfrm>
            <a:off x="371520" y="2421000"/>
            <a:ext cx="840096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28560" y="3747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Calibri"/>
                <a:ea typeface="Calibri"/>
              </a:rPr>
              <a:t>Hypertensio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28560" y="1557360"/>
            <a:ext cx="7886880" cy="446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5360" indent="-225360">
              <a:lnSpc>
                <a:spcPct val="81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sz="2700" spc="-1" strike="noStrike">
                <a:solidFill>
                  <a:srgbClr val="000000"/>
                </a:solidFill>
                <a:latin typeface="Calibri"/>
              </a:rPr>
              <a:t>Hypertension is defined as average systolic BP &amp;/or diastolic pressure (measurements on ≥3 occasions) &gt;95</a:t>
            </a:r>
            <a:r>
              <a:rPr b="0" sz="27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sz="2700" spc="-1" strike="noStrike">
                <a:solidFill>
                  <a:srgbClr val="000000"/>
                </a:solidFill>
                <a:latin typeface="Calibri"/>
              </a:rPr>
              <a:t> percentile for gender, age &amp; height on 3 occasion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5360" indent="-225360">
              <a:lnSpc>
                <a:spcPct val="81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sz="2700" spc="-1" strike="noStrike">
                <a:solidFill>
                  <a:srgbClr val="000000"/>
                </a:solidFill>
                <a:latin typeface="Calibri"/>
              </a:rPr>
              <a:t>Confirmation of hypertension may be assisted by 24-hour ambulatory BP measurements. Pre-hypertension is defined as BP that is between 90</a:t>
            </a:r>
            <a:r>
              <a:rPr b="0" sz="27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sz="2700" spc="-1" strike="noStrike">
                <a:solidFill>
                  <a:srgbClr val="000000"/>
                </a:solidFill>
                <a:latin typeface="Calibri"/>
              </a:rPr>
              <a:t> &amp; 95</a:t>
            </a:r>
            <a:r>
              <a:rPr b="0" sz="27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sz="2700" spc="-1" strike="noStrike">
                <a:solidFill>
                  <a:srgbClr val="000000"/>
                </a:solidFill>
                <a:latin typeface="Calibri"/>
              </a:rPr>
              <a:t> percentile.</a:t>
            </a:r>
            <a:r>
              <a:rPr b="0" sz="27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5360" indent="-225360">
              <a:lnSpc>
                <a:spcPct val="81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sz="2700" spc="-1" strike="noStrike">
                <a:solidFill>
                  <a:srgbClr val="000000"/>
                </a:solidFill>
                <a:latin typeface="Calibri"/>
              </a:rPr>
              <a:t>ACEi are recommended for use in children with diabetes &amp; hypertension.</a:t>
            </a:r>
            <a:r>
              <a:rPr b="0" sz="27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536400" indent="-268200">
              <a:lnSpc>
                <a:spcPct val="81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They have been shown to be effective &amp; safe in children in short-term studies but are not safe during pregnan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Shape 386"/>
          <p:cNvSpPr/>
          <p:nvPr/>
        </p:nvSpPr>
        <p:spPr>
          <a:xfrm>
            <a:off x="590400" y="64958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5E0E1C-801F-4716-AA1F-CEC141B8F72C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Shape 388"/>
          <p:cNvSpPr/>
          <p:nvPr/>
        </p:nvSpPr>
        <p:spPr>
          <a:xfrm>
            <a:off x="590400" y="64958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10DA27-25A0-4A05-8402-222BE6BFC2DF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4" name="image6.png" descr=""/>
          <p:cNvPicPr/>
          <p:nvPr/>
        </p:nvPicPr>
        <p:blipFill>
          <a:blip r:embed="rId1"/>
          <a:stretch/>
        </p:blipFill>
        <p:spPr>
          <a:xfrm>
            <a:off x="333360" y="2863800"/>
            <a:ext cx="8501040" cy="12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628560" y="4478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Calibri"/>
                <a:ea typeface="Calibri"/>
              </a:rPr>
              <a:t>Limited joint mobility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628560" y="1628280"/>
            <a:ext cx="7886880" cy="446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0680" indent="-220680">
              <a:lnSpc>
                <a:spcPct val="81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Limited joint mobility (LJM) is a bilateral painless contracture of the finger joints &amp; large joints, &amp; associated with tight ski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0680" indent="-220680">
              <a:lnSpc>
                <a:spcPct val="81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It can be demonstrated by asking the patient to approximate palmar surfaces of the interphalangeal join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25600" indent="-262080">
              <a:lnSpc>
                <a:spcPct val="81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sz="2000" spc="-1" strike="noStrike">
                <a:solidFill>
                  <a:srgbClr val="000000"/>
                </a:solidFill>
                <a:latin typeface="Calibri"/>
              </a:rPr>
              <a:t>Passive examination is essential to confirm that inability to do so is due to LJ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0680" indent="-220680">
              <a:lnSpc>
                <a:spcPct val="81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This deformity usually appears after the age of 10 year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25600" indent="-262080">
              <a:lnSpc>
                <a:spcPct val="81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sz="2000" spc="-1" strike="noStrike">
                <a:solidFill>
                  <a:srgbClr val="000000"/>
                </a:solidFill>
                <a:latin typeface="Calibri"/>
              </a:rPr>
              <a:t>The progression from mild to moderate or severe changes ranges from a few months to four years, following which stabilisation occur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0680" indent="-220680">
              <a:lnSpc>
                <a:spcPct val="81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For every unit increase in average HbA1c, there is an approximately 46% increase risk of developing LJ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25600" indent="-262080">
              <a:lnSpc>
                <a:spcPct val="81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sz="2000" spc="-1" strike="noStrike">
                <a:solidFill>
                  <a:srgbClr val="000000"/>
                </a:solidFill>
                <a:latin typeface="Calibri"/>
              </a:rPr>
              <a:t>LJM is associated with a 2- to 4-fold risk for retinopathy, nephropathy &amp; neuropathy.</a:t>
            </a:r>
            <a:r>
              <a:rPr b="0" sz="20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r>
              <a:rPr b="0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Shape 393"/>
          <p:cNvSpPr/>
          <p:nvPr/>
        </p:nvSpPr>
        <p:spPr>
          <a:xfrm>
            <a:off x="590400" y="64958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DC108A-39E6-4A3E-8CF6-CF41AFBE8518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28560" y="487440"/>
            <a:ext cx="7886880" cy="1117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Calibri"/>
                <a:ea typeface="Calibri"/>
              </a:rPr>
              <a:t>Lipodystrophy </a:t>
            </a:r>
            <a:br>
              <a:rPr sz="3600"/>
            </a:br>
            <a:r>
              <a:rPr b="1" sz="3600" spc="-1" strike="noStrike">
                <a:solidFill>
                  <a:srgbClr val="000000"/>
                </a:solidFill>
                <a:latin typeface="Calibri"/>
                <a:ea typeface="Calibri"/>
              </a:rPr>
              <a:t>- lipoatrophy &amp; lipohypertrophy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628560" y="1844280"/>
            <a:ext cx="7886880" cy="4248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16000" indent="-216000">
              <a:lnSpc>
                <a:spcPct val="81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It has been found up to 48% in those with T1DM &amp; is associated with higher HbA1c, greater number of injections &amp; longer duration of diabet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81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The independent risk factors for lipohypertrophy are:</a:t>
            </a:r>
            <a:r>
              <a:rPr b="0" sz="24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257400">
              <a:lnSpc>
                <a:spcPct val="90000"/>
              </a:lnSpc>
              <a:buClr>
                <a:srgbClr val="000000"/>
              </a:buClr>
              <a:buFont typeface="Courier New"/>
              <a:buChar char="o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sz="2000" spc="-1" strike="noStrike">
                <a:solidFill>
                  <a:srgbClr val="000000"/>
                </a:solidFill>
                <a:latin typeface="Calibri"/>
              </a:rPr>
              <a:t>lack of rotation in injection s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257400">
              <a:lnSpc>
                <a:spcPct val="90000"/>
              </a:lnSpc>
              <a:buClr>
                <a:srgbClr val="000000"/>
              </a:buClr>
              <a:buFont typeface="Courier New"/>
              <a:buChar char="o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sz="2000" spc="-1" strike="noStrike">
                <a:solidFill>
                  <a:srgbClr val="000000"/>
                </a:solidFill>
                <a:latin typeface="Calibri"/>
              </a:rPr>
              <a:t>use of small injection z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257400">
              <a:lnSpc>
                <a:spcPct val="90000"/>
              </a:lnSpc>
              <a:buClr>
                <a:srgbClr val="000000"/>
              </a:buClr>
              <a:buFont typeface="Courier New"/>
              <a:buChar char="o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sz="2000" spc="-1" strike="noStrike">
                <a:solidFill>
                  <a:srgbClr val="000000"/>
                </a:solidFill>
                <a:latin typeface="Calibri"/>
              </a:rPr>
              <a:t>reuse of need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81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Insulin may be absorbed unpredictably from these areas, affecting BG contro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81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Treatment of lipohypertrophy involves avoidance of the affected sites for at least 2 - 3 months, while prevention strategies include avoidance of its risk factors as mentioned above.</a:t>
            </a:r>
            <a:r>
              <a:rPr b="0" sz="24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Shape 397"/>
          <p:cNvSpPr/>
          <p:nvPr/>
        </p:nvSpPr>
        <p:spPr>
          <a:xfrm>
            <a:off x="590400" y="64958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50B772-39D9-4C6D-806D-12DF78800FB8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28560" y="6206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Calibri"/>
                <a:ea typeface="Calibri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28560" y="1844280"/>
            <a:ext cx="7886880" cy="4032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understand complications of T1DM &amp; thei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o know criteria of referral for T1DM to paediatric endocrinologists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Shape 331"/>
          <p:cNvSpPr/>
          <p:nvPr/>
        </p:nvSpPr>
        <p:spPr>
          <a:xfrm>
            <a:off x="631080" y="64958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8EBD29-820D-4AB7-8861-2EEEAE49272F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628560" y="6206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Calibri"/>
                <a:ea typeface="Calibri"/>
              </a:rPr>
              <a:t>Referra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2" name="Shape 400"/>
          <p:cNvSpPr/>
          <p:nvPr/>
        </p:nvSpPr>
        <p:spPr>
          <a:xfrm>
            <a:off x="590400" y="64958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12752C-6CC4-4023-A768-DB1D1858DC51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3" name="image7.png" descr=""/>
          <p:cNvPicPr/>
          <p:nvPr/>
        </p:nvPicPr>
        <p:blipFill>
          <a:blip r:embed="rId1"/>
          <a:stretch/>
        </p:blipFill>
        <p:spPr>
          <a:xfrm>
            <a:off x="345960" y="1844640"/>
            <a:ext cx="84646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28560" y="6415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Take Home Messag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28560" y="1844280"/>
            <a:ext cx="7886880" cy="4032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Complications of T1DM should be identified &amp; treated according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Screening schedule for the complications is proposed in the CPG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Referral of T1DM to paediatric endocrinologists are based on certain criteria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9600" spc="-1" strike="noStrike">
                <a:solidFill>
                  <a:srgbClr val="3333ff"/>
                </a:solidFill>
                <a:latin typeface="Calibri Light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7" name="Shape 408"/>
          <p:cNvSpPr/>
          <p:nvPr/>
        </p:nvSpPr>
        <p:spPr>
          <a:xfrm>
            <a:off x="329400" y="652392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FB82AB-D32F-4CCD-9B5B-80FDB3D49DBB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28560" y="6206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Calibri"/>
                <a:ea typeface="Calibri"/>
              </a:rPr>
              <a:t>Complications of T1DM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28560" y="1828800"/>
            <a:ext cx="7886880" cy="419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Calibri"/>
              </a:rPr>
              <a:t>In Malaysia, T1DM patients of &gt;10 years old:</a:t>
            </a:r>
            <a:r>
              <a:rPr b="0" sz="28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microalbuminuria (7.3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nephropathy (3.2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retinopathy (2.4%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neuropathy (0.8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Calibri"/>
              </a:rPr>
              <a:t>It is important to maintain good glycaemic control in patients with T1DM to prevent long-term complicatio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</a:rPr>
              <a:t>4. Fuziah MZ, et al. Kuala Lumpur: DiCARE;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Shape 335"/>
          <p:cNvSpPr/>
          <p:nvPr/>
        </p:nvSpPr>
        <p:spPr>
          <a:xfrm>
            <a:off x="631080" y="64958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6090EB-4C87-4CF4-9758-69EAE4583BA9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28560" y="6415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Calibri"/>
                <a:ea typeface="Calibri"/>
              </a:rPr>
              <a:t>Nephropathy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628560" y="1844280"/>
            <a:ext cx="7886880" cy="4032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Calibri"/>
              </a:rPr>
              <a:t>Risk factors for microalbuminuria are:</a:t>
            </a:r>
            <a:r>
              <a:rPr b="0" sz="2800" spc="-1" strike="noStrike" baseline="30000">
                <a:solidFill>
                  <a:srgbClr val="000000"/>
                </a:solidFill>
                <a:latin typeface="Calibri"/>
              </a:rPr>
              <a:t>12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hypertension (p=0.00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higher HbA1c levels (p=0.00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longer diabetes duration (p=0.03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dyslipidaemia (p=0.03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</a:rPr>
              <a:t>127. Demirel F, et al. J Clin Res Pediatr Endocrinol. 2013;5(3):145-14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Shape 339"/>
          <p:cNvSpPr/>
          <p:nvPr/>
        </p:nvSpPr>
        <p:spPr>
          <a:xfrm>
            <a:off x="631080" y="64958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A9C996-4C22-401C-8860-FBBA544D81C7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28560" y="6415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Calibri"/>
                <a:ea typeface="Calibri"/>
              </a:rPr>
              <a:t>Nephropathy</a:t>
            </a:r>
            <a:r>
              <a:rPr b="1" sz="2000" spc="-1" strike="noStrike">
                <a:solidFill>
                  <a:srgbClr val="000000"/>
                </a:solidFill>
                <a:latin typeface="Calibri"/>
                <a:ea typeface="Calibri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18680" y="1844280"/>
            <a:ext cx="836604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Calibri"/>
              </a:rPr>
              <a:t>The first clinical sign of nephropathy is elevation of albumin excretion. This is generally defined as any of those below:</a:t>
            </a:r>
            <a:r>
              <a:rPr b="0" sz="28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AER of 20 - 200 μg/m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AER of 30 - 300 mg/24 ho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albumin concentration of 30 - 300 mg/L (early morning urine sample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ACR 2.5 - 25 mg/mmol in males &amp; 3.5 - 25 mg/mmol in females (early morning urine sample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</a:rPr>
              <a:t>8. International Society for Pediatric and Adolescent Diabetes (ISPAD). Oxford: Wiley  Blackwell; 201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Shape 343"/>
          <p:cNvSpPr/>
          <p:nvPr/>
        </p:nvSpPr>
        <p:spPr>
          <a:xfrm>
            <a:off x="631080" y="64958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E4282C-68CA-4403-B0C3-0397B9B00C04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28560" y="6415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Calibri"/>
                <a:ea typeface="Calibri"/>
              </a:rPr>
              <a:t>Nephropathy</a:t>
            </a:r>
            <a:r>
              <a:rPr b="1" sz="2000" spc="-1" strike="noStrike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28560" y="1844640"/>
            <a:ext cx="7886880" cy="4105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Calibri"/>
              </a:rPr>
              <a:t>Spot urine ACR is closely correlated with 24-hours urine albumin excretion in patients with T1DM (R</a:t>
            </a:r>
            <a:r>
              <a:rPr b="0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sz="2800" spc="-1" strike="noStrike">
                <a:solidFill>
                  <a:srgbClr val="000000"/>
                </a:solidFill>
                <a:latin typeface="Calibri"/>
              </a:rPr>
              <a:t>=0.828, p&lt;0.001).</a:t>
            </a:r>
            <a:r>
              <a:rPr b="0" sz="2800" spc="-1" strike="noStrike" baseline="30000">
                <a:solidFill>
                  <a:srgbClr val="000000"/>
                </a:solidFill>
                <a:latin typeface="Calibri"/>
              </a:rPr>
              <a:t>12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Calibri"/>
              </a:rPr>
              <a:t>Because of biological variability, 2 of 3 consecutive urine collections over a period of 3 - 6 months should be used as evidence of microalbuminur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Abnormal screening tests should be repeated as microalbuminuria may not be persistent.</a:t>
            </a:r>
            <a:r>
              <a:rPr b="0" sz="24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r>
              <a:rPr b="0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</a:rPr>
              <a:t>128. Chae HW, et al. J Korean Med Sci. 2012;27(7):784-78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Shape 347"/>
          <p:cNvSpPr/>
          <p:nvPr/>
        </p:nvSpPr>
        <p:spPr>
          <a:xfrm>
            <a:off x="631080" y="64958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D0B3C7-1098-4188-888F-DC6C978188ED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28560" y="6206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Calibri"/>
                <a:ea typeface="Calibri"/>
              </a:rPr>
              <a:t>Nephropathy</a:t>
            </a:r>
            <a:r>
              <a:rPr b="1" sz="2000" spc="-1" strike="noStrike">
                <a:solidFill>
                  <a:srgbClr val="000000"/>
                </a:solidFill>
                <a:latin typeface="Calibri"/>
                <a:ea typeface="Calibri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28560" y="1844640"/>
            <a:ext cx="7886880" cy="4105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Calibri"/>
              </a:rPr>
              <a:t>When interpreting urine microalbuminuria, false positive results should be considered which may occur in the following conditions:</a:t>
            </a:r>
            <a:r>
              <a:rPr b="0" sz="28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menstrual ble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infe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fe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kidney dise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marked hyperglycaem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Shape 351"/>
          <p:cNvSpPr/>
          <p:nvPr/>
        </p:nvSpPr>
        <p:spPr>
          <a:xfrm>
            <a:off x="631080" y="64958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06F2ED-0F7D-4A5A-9ED2-15979CDF3254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28560" y="6415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Calibri"/>
                <a:ea typeface="Calibri"/>
              </a:rPr>
              <a:t>Nephropathy</a:t>
            </a:r>
            <a:r>
              <a:rPr b="1" sz="2000" spc="-1" strike="noStrike">
                <a:solidFill>
                  <a:srgbClr val="000000"/>
                </a:solidFill>
                <a:latin typeface="Calibri"/>
                <a:ea typeface="Calibri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628560" y="1844640"/>
            <a:ext cx="7886880" cy="4105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Calibri"/>
              </a:rPr>
              <a:t>ACEi or ARB should be used in adolescent patients with persistent microalbuminuria to prevent progression to proteinuria.</a:t>
            </a:r>
            <a:r>
              <a:rPr b="0" sz="28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Adolescent girls need to be informed about the potential risk of congenital malformation when used during pregnancy &amp; advised on contraception before starting medication.</a:t>
            </a:r>
            <a:r>
              <a:rPr b="0" sz="24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Calibri"/>
              </a:rPr>
              <a:t>Patients with transient microalbuminuria generally do not need to be treated with ACEi or AR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Shape 355"/>
          <p:cNvSpPr/>
          <p:nvPr/>
        </p:nvSpPr>
        <p:spPr>
          <a:xfrm>
            <a:off x="631080" y="64958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3E3202-4050-4B12-9B13-90B0B88E03E1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28560" y="6415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Calibri"/>
                <a:ea typeface="Calibri"/>
              </a:rPr>
              <a:t>Retinopathy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28560" y="1844280"/>
            <a:ext cx="7886880" cy="4032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Calibri"/>
              </a:rPr>
              <a:t>Assessment for retinopathy in patients with T1DM should be performed by an ophthalmologist or any trained healthcare provider through dilated pupi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Initial eye examination should also be considered to detect major refractive errors or catarac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The frequency of retinopathy screening in general should be done annually &amp; more frequently if there are high risk features for visual los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Shape 359"/>
          <p:cNvSpPr/>
          <p:nvPr/>
        </p:nvSpPr>
        <p:spPr>
          <a:xfrm>
            <a:off x="631080" y="64958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1F8B04-DFF6-47C7-B207-5D8D4639DAA0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Amin</dc:creator>
  <dc:description/>
  <dc:language>en-US</dc:language>
  <cp:lastModifiedBy>DrAmin</cp:lastModifiedBy>
  <dcterms:modified xsi:type="dcterms:W3CDTF">2017-01-09T08:07:53Z</dcterms:modified>
  <cp:revision>4</cp:revision>
  <dc:subject/>
  <dc:title>Training Module CPG T1DM - Complications of T1DM</dc:title>
</cp:coreProperties>
</file>